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4F5B-90CA-4F44-BD61-30874D157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5E8C-985E-4385-AE87-BD33AA22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CD2D-59C8-4C7A-A913-9C0E79B81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2BB0-8E85-424C-A50A-F7EDD042A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CC40-AF00-422F-AC94-4986F596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DDA5-DE7F-49D1-B1E6-33E13160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B739-9357-4689-91F8-F4A92605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05AB-3775-4A20-9751-DEA11B1C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A604-13E0-4FDE-B3FA-C0C7E497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5D14-9993-46A6-AA88-0C689E66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3C56-AA48-4462-B50E-83BF3405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12A4-2596-49FB-9220-D9EFCA8A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71DE-533A-4C70-BE83-1E251FEFA6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e3ebf1"/>
                </a:solidFill>
                <a:latin typeface="Arial"/>
              </a:rPr>
              <a:t>Lesson 9.6</a:t>
            </a:r>
            <a:br>
              <a:rPr sz="7500"/>
            </a:br>
            <a:endParaRPr b="0" lang="en-US" sz="75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muta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ordering of elements such that the order is impor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55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55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5500" spc="-1" strike="noStrike" baseline="30000">
                <a:solidFill>
                  <a:srgbClr val="ffffff"/>
                </a:solidFill>
                <a:latin typeface="Arial"/>
              </a:rPr>
              <a:t>n!</a:t>
            </a:r>
            <a:r>
              <a:rPr b="0" lang="en-US" sz="5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Arial"/>
              </a:rPr>
              <a:t>(n-r)!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alculate these permutations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55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-25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55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3ebf1"/>
                </a:solidFill>
                <a:latin typeface="Arial"/>
              </a:rPr>
              <a:t>We have already done combinations from lesson 9.5</a:t>
            </a:r>
            <a:endParaRPr b="0" lang="en-US" sz="3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ffffff"/>
                </a:solidFill>
                <a:latin typeface="Arial"/>
              </a:rPr>
              <a:t>Calculate </a:t>
            </a:r>
            <a:r>
              <a:rPr b="0" lang="en-US" sz="65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65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65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1.  A standard poker hand consists of five cards dealt from a deck of 52.  How many different hands are possible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2.  Eight horses are in a race.  In how many ways can 1</a:t>
            </a:r>
            <a:r>
              <a:rPr b="0" lang="en-US" sz="4000" spc="-1" strike="noStrike" baseline="30000">
                <a:solidFill>
                  <a:srgbClr val="e3ebf1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, 2</a:t>
            </a:r>
            <a:r>
              <a:rPr b="0" lang="en-US" sz="4000" spc="-1" strike="noStrike" baseline="30000">
                <a:solidFill>
                  <a:srgbClr val="e3ebf1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and 3</a:t>
            </a:r>
            <a:r>
              <a:rPr b="0" lang="en-US" sz="4000" spc="-1" strike="noStrike" baseline="30000">
                <a:solidFill>
                  <a:srgbClr val="e3ebf1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place be awarded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3.  There are 50 numbers in a state lottery.  To win, you must match six of them.  How many ways can a person select 6 numbers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Homework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320040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ge 671 (1-15) od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undamental Counting Princi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e total number of ways that two (or more) events can occur is found by the product of the number of choices for each even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1.  How many pairs of letters are there in the English alphabet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2.  How many telephone numbers can exist within one area code?  (Note that a telephone number can’t begin with a 0 or 1)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98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3.  In how many different ways can five girls and three boys enter a room single file if the girls must all go in before the boys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mutations and Combination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2:32:27Z</dcterms:created>
  <dc:creator>jnewman</dc:creator>
  <dc:description/>
  <dc:language>en-US</dc:language>
  <cp:lastModifiedBy>abeason</cp:lastModifiedBy>
  <dcterms:modified xsi:type="dcterms:W3CDTF">2009-03-31T13:29:56Z</dcterms:modified>
  <cp:revision>6</cp:revision>
  <dc:subject/>
  <dc:title>Lesson 9.6 part one</dc:title>
</cp:coreProperties>
</file>